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001-7106-471D-A2AC-C196CD91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67C-5E54-416C-9CFF-A24650DA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DA3-C439-4D12-AA58-5E36D313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E92-56EB-4BCA-82E7-862AA1E8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3210-6AC4-465C-A29F-20903687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8253-C79D-4E2A-B7B9-133E56D0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A7D8-2E04-49D9-8FBE-9A71ECF0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F58F-1F1A-4454-9AFC-D96D34B5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C085-C0D6-472D-9089-9053B6EA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3814-4088-489C-A39F-FCD94751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6B55-D71A-46D3-AC19-DEED1B4C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C9F-3AA5-4D0D-91A9-94C4E09B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B714-37B7-465E-BBA6-B72D029B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D0EA-37E0-4480-BCF9-3FCA4268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9282-2870-41B4-8365-43D7068F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0042-51AB-40AA-BE41-2E0E060B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046D-35AA-4BD4-A72B-8F857FA5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0DE-BC76-48FB-8536-EF5A162E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5C7-AD16-4391-9A05-B1992576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1B8-E853-4B18-9D80-3892EFFA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F0F-C3F4-42DF-80D2-600390F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15F-2BD9-47DD-9657-3B1A552B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F2E-45F3-4556-AC9B-951901F0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399-FC99-4681-9F56-AC7EA10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Tun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6C68-CD2B-4DC8-BC42-2E9A1E0FE6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EB79-876C-4261-8DEA-211D127DFA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vtc-edtech.org/" TargetMode="External"/><Relationship Id="rId3" Type="http://schemas.openxmlformats.org/officeDocument/2006/relationships/hyperlink" Target="http://www.portaportal.com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ETS*T Certif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26668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ilding An Electronic Portfol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038480"/>
            <a:ext cx="52578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ed by Karen Camp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uctional Technology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rrisonburg City Public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implement curriculum plans that include methods and strategies for applying technologies to maximize student learning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eo, pictures, student products showing students using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with content and technology 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in which students have options for obtaining information, formulating ideas, and creating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in which students use H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servation from principal/evaluator on lesson incorporating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managemen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V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apply technology to facilitate a variety of effective assessment and evaluation strateg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ssess student learning using technology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B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Collect and analyze data to improve teaching</a:t>
            </a:r>
            <a:br>
              <a:rPr sz="34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C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ssess students’ appropriate use of technology resourc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V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apply technology to facilitate a variety of effective assessment and evaluation strateg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electronic portfoli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ic grade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and class data (ARP report, PALS assessment, electronic grade book) with narratives about decisions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brics that you have developed to assess students’ technology use in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3680" indent="-463680">
              <a:buClr>
                <a:srgbClr val="000000"/>
              </a:buClr>
              <a:buFont typeface="Verdana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use technology to enhance their productivity and professional practice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580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Engage in technology-enhanced professional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B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Reflect on professional pract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C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pply technology to increase produc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D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Communicate and collaborate with peers, parents, and larger commun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3680" indent="-463680">
              <a:buClr>
                <a:srgbClr val="000000"/>
              </a:buClr>
              <a:buFont typeface="Verdana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use technology to enhance their productivity and professional practice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580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 of completion of an online course or experience to improve i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fessional developmen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rratives about conferences or inservices atten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al materials created with 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sletter or class web pages used to provide information to par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32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I.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eachers understand the social, ethical, legal, and human issues surrounding the use of technology in PK-12 schools and apply that understanding in practi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51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Model and teach ethics</a:t>
            </a:r>
            <a:br>
              <a:rPr sz="3000"/>
            </a:b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751"/>
              </a:spcBef>
              <a:buClr>
                <a:srgbClr val="003366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Empower learners with diverse and special nee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751"/>
              </a:spcBef>
              <a:buClr>
                <a:srgbClr val="003366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ffirm divers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751"/>
              </a:spcBef>
              <a:buClr>
                <a:srgbClr val="003366"/>
              </a:buClr>
              <a:buFont typeface="Verdan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Promote safe and responsible use of technolo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E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Facilitate equitable ac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32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I.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eachers understand the social, ethical, legal, and human issues surrounding the use of technology in PK-12 schools and apply that understanding in practi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ance certificate from a copyright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 of purposeful use of assistive techn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that reflects respect and appreciation for cultural backgrounds of lear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s or guidelines for the use of technology in the class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 of classroom management (scheduling, room arrangement, rules) that ensure equitable 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tting Start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34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the follow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Professional Development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ng and short term goa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rategies for reaching goa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Classroom Technology Management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verview of how you use technology in the classroo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Reflective Jour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ocument your thoughts as you use technolog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ds of Wisdo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important parts of your portfol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flection – you describe how you meet the elements of the rub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tifacts – evid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fically discuss in your reflection how your artifacts address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ery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em in the rub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similar wording as in the rub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in how artifacts influence classroom instru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80880" y="914400"/>
          <a:ext cx="8229600" cy="4948200"/>
        </p:xfrm>
        <a:graphic>
          <a:graphicData uri="http://schemas.openxmlformats.org/drawingml/2006/table">
            <a:tbl>
              <a:tblPr/>
              <a:tblGrid>
                <a:gridCol w="1524240"/>
                <a:gridCol w="1768320"/>
                <a:gridCol w="1644840"/>
                <a:gridCol w="1645920"/>
                <a:gridCol w="1646280"/>
              </a:tblGrid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velop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pproach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e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cee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</a:tr>
              <a:tr h="24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ek Professional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llects professional development opportunity notices or sporadically attends professional development activities. Does not attend those that increase technology expertise. When attending, continues to reinforce knowledge already demonstrat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tends professional development activities but is inconsistent in making selections based on professional goals and learning new technologies to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ularly takes advantage of professional development opportunities in alignment with a professional development plan that increases knowledge and skills that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arches out professional development opportunities that support a professional development plan as well as those that provide a preview of coming technologies to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how technology supports student learnin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amines how technology supports learning in general but does not evaluate whether it specifically meets student needs. Does not consistently exercise critical judgment in evaluating technolo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valuates how technology supports student learning but either sees the application in very narrow terms or accepts the judgment of others without review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tically evaluates how technology supports student learning, considers multiple factors for application, and is able to prioritize which are most important for the time and resources availabl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tically evaluates how technology supports student learning. Is able to formulate uses of new technologies in ways that are not currently documented. Is innovative in ideas for applicatio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880" y="304920"/>
          <a:ext cx="8229600" cy="532800"/>
        </p:xfrm>
        <a:graphic>
          <a:graphicData uri="http://schemas.openxmlformats.org/drawingml/2006/table">
            <a:tbl>
              <a:tblPr/>
              <a:tblGrid>
                <a:gridCol w="1481400"/>
                <a:gridCol w="674820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ubric I.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ers demonstrate continual growth in technology knowledge and skills to stay abreast of current and emerging technolo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Educational Technology Standards for Teachers (NETS*T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24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rget technology use in the teaching-learning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hance your teaching and improve student learn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vide opportunities for students to use technology “to learn, communicate, and develop knowledge products”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STE, 2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ds of Wisdo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e your reflection in wor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py/pas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mit document as refle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 aware of file size and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e PDFCreator is avail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risworks may not be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c users – add file extens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.jpg or .gif for pict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ke sure evaluator has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ds of Wisdo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 profession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cuments can not be changed once they have been submit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current artifacts (within the last 2 years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ove all student names and/or identifying information before submitting artifac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VTC EdTech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svtc-edtech.o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TS*T Porta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portaportal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est username: NETS*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Closer Lo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 Standa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ance Indica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ubr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.  Teachers demonstrate a sound understanding of technology operations and conce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Demonstrate basic knowledge and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spcBef>
                <a:spcPts val="24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B.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Stay current with instructional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914400"/>
          <a:ext cx="8229600" cy="5005440"/>
        </p:xfrm>
        <a:graphic>
          <a:graphicData uri="http://schemas.openxmlformats.org/drawingml/2006/table">
            <a:tbl>
              <a:tblPr/>
              <a:tblGrid>
                <a:gridCol w="1524240"/>
                <a:gridCol w="1768320"/>
                <a:gridCol w="1644840"/>
                <a:gridCol w="1645920"/>
                <a:gridCol w="1646280"/>
              </a:tblGrid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velop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pproach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e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cee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</a:tr>
              <a:tr h="25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ek Professional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llects professional development opportunity notices or sporadically attends professional development activities. Does not attend those that increase technology expertise. When attending, continues to reinforce knowledge already demonstrat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tends professional development activities but is inconsistent in making selections based on professional goals and learning new technologies to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ularly takes advantage of professional development opportunities in alignment with a professional development plan that increases knowledge and skills that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arches out professional development opportunities that support a professional development plan as well as those that provide a preview of coming technologies to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how technology supports student learnin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amines how technology supports learning in general but does not evaluate whether it specifically meets student needs. Does not consistently exercise critical judgment in evaluating technolo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valuates how technology supports student learning but either sees the application in very narrow terms or accepts the judgment of others without review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tically evaluates how technology supports student learning, considers multiple factors for application, and is able to prioritize which are most important for the time and resources availabl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tically evaluates how technology supports student learning. Is able to formulate uses of new technologies in ways that are not currently documented. Is innovative in ideas for applicatio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80880" y="304920"/>
          <a:ext cx="8229600" cy="532800"/>
        </p:xfrm>
        <a:graphic>
          <a:graphicData uri="http://schemas.openxmlformats.org/drawingml/2006/table">
            <a:tbl>
              <a:tblPr/>
              <a:tblGrid>
                <a:gridCol w="1481400"/>
                <a:gridCol w="674820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ubric I.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ers demonstrate continual growth in technology knowledge and skills to stay abreast of current and emerging technolo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sible Artifac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rtificates from workshops, classes, conferen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sional development p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lection with supporting lesson plan on how technology supports learning and factors for its appl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sson p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I. Teachers plan and design effective learning environments and experiences supported by 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Design technology integrated lessons for diverse needs of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Apply current research when pla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Locate and evaluate technology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Manage technology resources in the class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Plan strategies to manage student learning in technology integrated les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I.  Teachers plan and design effective learning environments and experiences supported by technology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that includes differentiation and uses technology in different 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citing resear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urnal entry discussing challenges of applying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of resources to support student lear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bric for evaluating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management 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Plan B” – plans for dealing when technology does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managemen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plan of class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implement curriculum plans that include methods and strategies for applying technologies to maximize student learning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ddress the SOL and NETS*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B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Support diverse learning styles through student-centered strateg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C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Encourage higher-order thinking skills (HO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D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Manage student learning activ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4:40:49Z</dcterms:created>
  <dc:creator>HCPS</dc:creator>
  <dc:description/>
  <dc:language>en-US</dc:language>
  <cp:lastModifiedBy>Virginia Beach Public Schools</cp:lastModifiedBy>
  <dcterms:modified xsi:type="dcterms:W3CDTF">2006-03-15T14:27:30Z</dcterms:modified>
  <cp:revision>12</cp:revision>
  <dc:subject/>
  <dc:title>NETS*T Certification</dc:title>
</cp:coreProperties>
</file>